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E56-1ADA-4646-8FAC-81A99D95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0E1-F3DA-4230-B45A-76650EB2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6B0-15B6-4784-80A5-7638CF93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14C-7E3F-4475-9AEE-3023D3CF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DE92-F9F7-49DD-BC73-76A8075C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05F-E824-4665-B2F9-997D09BD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6B6D-C971-43F7-AA04-2495C89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01A-171B-425C-8FD6-56EF5F9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71EB-A565-4CCB-94DA-B5CB43D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6A1D-DF8F-482F-8A9C-AA05699E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077-713C-45B3-A1B0-03A6B89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438-3EDE-49A1-8F62-9017C02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792B-16CE-459C-80AA-96AF9D7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08CA-A38C-477E-B122-D201255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BA64-B078-4CE8-8C32-98FE19D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43F-E817-42CC-AF72-DAAB7607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BB8-5C9F-4C29-8688-1EE59DF9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B90-05A0-4745-94B4-2297BFB9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5A5-046F-4FD6-B23A-2652388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E17-A48C-4C5E-A43C-33A5036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354-726D-49BB-A69B-432D791C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D97-2957-4282-9AD9-9B19112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4F8-6793-4C12-BEBE-D4520AF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BCD-616B-4FCA-8F9E-5CD4A6C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A87-57D7-4F17-896B-D6C4599304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2374-E741-4516-B2FF-B513EB313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nd.galegroup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Lauryn and Rachel Mone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Ozone Layer Deple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Ozone layer?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zo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atmospheric layer that helps shield life from ultraviolet radiation, which helps minimize the breakage of D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ozone1"/>
          <p:cNvPicPr/>
          <p:nvPr/>
        </p:nvPicPr>
        <p:blipFill>
          <a:blip r:embed="rId1"/>
          <a:stretch/>
        </p:blipFill>
        <p:spPr>
          <a:xfrm>
            <a:off x="2666880" y="3581280"/>
            <a:ext cx="3292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od vs Bad O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92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ozone is found in strat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s UV light – prevents ca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d ozone is a pollutant in the trop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the air w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eath – can ca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piratory 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nent of sm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41760" y="3124080"/>
            <a:ext cx="4602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9" descr="graphic_ozone_location"/>
          <p:cNvPicPr/>
          <p:nvPr/>
        </p:nvPicPr>
        <p:blipFill>
          <a:blip r:embed="rId1"/>
          <a:stretch/>
        </p:blipFill>
        <p:spPr>
          <a:xfrm>
            <a:off x="2517840" y="304920"/>
            <a:ext cx="4849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is it happen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lorofluorocarbons (CFCs), are chemicals that are emitted into the lower atmosphe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hemicals slowly penetrate into the stratosphere, where they then consume ozone molecu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all the depletion? </a:t>
            </a:r>
            <a:r>
              <a:rPr b="0" lang="en-US" sz="52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endParaRPr b="0" lang="en-US" sz="5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observed in the mid-198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, pollution is the factor causing ozone layer deple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s in air conditioning and cooling uni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erosol spray (hairspr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ning processes of electronical equip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6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8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80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82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ultraviolet radi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ltraviolet light is a form of electromagnetic radi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rm electromagnetic spectrum refers to all forms of energy transmitted by means of waves traveling at the speed of l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the radiation that causes tanning and sunburns and can lead to skin canc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ozone3"/>
          <p:cNvPicPr/>
          <p:nvPr/>
        </p:nvPicPr>
        <p:blipFill>
          <a:blip r:embed="rId1"/>
          <a:stretch/>
        </p:blipFill>
        <p:spPr>
          <a:xfrm>
            <a:off x="4343400" y="42372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eedman, Bill. "Ozone layer depletion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Gale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. Lee Lerner and Brenda Wilmoth Lerner. 4th ed. Detroit: Gale Group, 2008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&lt;http://find.galegroup.com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Ozone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World of Scientific Discov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imberley A. McGrath and Bridget Travers. Online ed. Detroit: Thomson Gale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</a:t>
            </a:r>
            <a:r>
              <a:rPr b="0" lang="en-US" sz="14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http://find.galegroup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Electromagnetic spectrum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XL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Rob Nagel. 2nd ed. Detroit: U*X*L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41:12Z</dcterms:created>
  <dc:creator>sasd</dc:creator>
  <dc:description/>
  <dc:language>en-US</dc:language>
  <cp:lastModifiedBy>dhakim</cp:lastModifiedBy>
  <dcterms:modified xsi:type="dcterms:W3CDTF">2012-03-28T13:27:28Z</dcterms:modified>
  <cp:revision>28</cp:revision>
  <dc:subject/>
  <dc:title>Ozone Layer Depletion</dc:title>
</cp:coreProperties>
</file>